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FDAA-6FE3-440E-B7A8-15614BC76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8CA0-B01A-47BB-9C99-DA9E739E7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1AA4-8D12-4FA3-8C43-B5A73176E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EA6F-F9F0-4855-B3AB-59C8B9A93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7AF7-6DF0-4EE1-9CEB-3B01E014C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AF81-C714-4341-BEAB-00524A6D0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C415-CF9A-4EB7-9041-24820CC7F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9058-E0F4-4BCE-BAD5-5A01D1839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4996-F78D-4062-A836-B78C02638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CD02-0B15-4ABF-9EAE-A5C1DEAB8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454B-1BA9-443C-B4FD-939CE365F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D89F-3865-4EEB-8735-17E2F4508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7E99-F534-405D-8DD9-CC89F61CAD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sources.curriculum.org/secretariat/honouring/fostering.html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gains.ca/newsite/math2/classroomdynamic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8A4A-D832-434C-965C-2A4595052F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5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N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lling Abou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34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athematici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 about – meet as many group members as possible and record their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768E-AB2D-4F9F-AE35-32110DDF16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9F6-FEBB-4521-90BC-6D234984BF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3657600" y="4373640"/>
            <a:ext cx="411804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2361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norms for collaborative group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2B11-2A2F-4622-8C57-DBE104002E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390528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n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you a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ideas you recorded and  position yourself on the line between 1(no) and 10 (y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prompt and your position with those besid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1935-9DBB-4AD8-AE02-EC9B428F5D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324480" y="555480"/>
            <a:ext cx="215748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6324480" y="0"/>
            <a:ext cx="1438560" cy="1571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“norms” (rules, conditions) need to be in place if we are to work and learn together collaboratively in groups as mathematician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take 4 or 5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one suggestion on each note (example: everyone gets a chance to share think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6CC7-E26D-407D-81DC-0AF990BF85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 (con’t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oups of four compare your sticky notes and pile ones that are the same idea on top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with another group of four and repea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group of eight will read their sticky piles while remaining groups who have a similar pile put theirs on top until all sticky notes ar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A5AE-E921-4906-93CB-CFAD1E2FAA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859200" y="5105520"/>
            <a:ext cx="2905200" cy="163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ouring Student Voice (Fostering a Community of Learners) It's ok to disagree!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sources.curriculum.org/secretariat/honouring/foster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73D6-41AE-4CCF-AAE6-DD5ED18BBE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551560" y="40384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me Activity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ay wish to visit the EduGAINS Site and review the Classroom Dynamics resources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//www.edugains.ca/newsite/math2/classroomdynamic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 research monograph by Dr. Cathy Bruce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udent Interaction in the Math Classroom: Stealing Ideas or Building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edugains.ca/newsite/lns/whatworksser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8273-E8CD-4BF1-955D-11045267D3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7-23T13:44:03Z</dcterms:modified>
  <cp:revision>37</cp:revision>
  <dc:subject/>
  <dc:title>&lt;Title&gt;</dc:title>
</cp:coreProperties>
</file>